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C9DE-275F-4BF7-939C-9ABA4F0F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7C61-07DA-4DE6-BF21-024CBFC2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F275-2935-4855-BC51-3CC4C1719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2630-87A9-40D7-969E-7CB8B72F1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343B-F2B5-4B47-B38B-F442FE3C5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CD60-AF42-4492-8728-8714F447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F522-D4F0-4732-A9B5-60627CC8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A1C3-476B-4358-B8CB-29F5721E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FBEA-5805-473C-A860-B3D5816D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D221-ECA0-4ABB-BE39-CD85D224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94B0-EDEB-4FF5-8A02-39731CB2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892E-966C-4235-96A6-27FA843E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D7EC-A93E-4BBC-AC92-1E023509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CB47-6023-4AC0-A12D-978DEABC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7F71-4117-4697-AF60-98EB09D3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CC33-C034-41A0-9D89-A3A7FB562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6B97-4083-4A6D-8AA0-7D4E56E4F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F470B-B4BA-4749-9E02-250AD735F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17D19-CD1D-4EC0-A56D-39C2C730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29709-1AD5-4076-A2A2-734945F0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63F30-EC6B-4A2B-A059-467870E7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62A14-A291-44B0-ACD2-F03B88DF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407F-B671-452D-8E04-D1E2FD4F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921AD-22C2-4ADA-9B17-2C9E07EC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8CCDE-7763-43DD-B491-EF16ABA3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B403B-EFFE-4D11-A9D1-B1B3B672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E2EB0-A8C3-4941-95E2-660269D9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DDD5C-DF79-4A78-A9B6-10E4E377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AAB8B-0884-45FA-AF1B-CDFCD725C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42412-FC02-4935-9302-0E29AA5C8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4767C-CFD9-4B1C-A3AC-D275CF01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6397A-2D3E-4492-9876-1BA602AF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49FE4-B9BF-46F4-A0C0-91803336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56D3-D957-4F4E-9462-877D2F9D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05174-A7B0-4683-98BE-701307AF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C3C55-96D8-499E-A9A7-B8AADA65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9D3A8-855E-47E6-B315-E425635F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7A808-4A01-42A4-A62F-2973D1E9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FDE36-6B5E-43F0-8992-00D22A44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5D36C-25FF-49B6-B4B8-5C574AF2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054E1-99CF-4EC6-A641-8B049FD4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7D075-521E-4223-8A5F-696E0A702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82BCA-A99D-400E-9610-DAF95BFE7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C88A-EA59-40B5-ADF6-178496AD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3676-E0AF-4E11-9298-B300E69A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7FD0-C632-4690-93C5-6F37E231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9919-0F68-4164-85A2-4F9CFB2B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2A20-0196-4A48-82A0-2EB6755E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48CD-786C-44CB-9069-75E4D2042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E2C5-5D9B-4191-B190-73D4FD1C6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92C8-CBA6-47C0-B962-AA6E3130DEC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7313-45E9-40F4-9364-2F733C0337E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8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dkintl.org/kappan/docs/09pol_highlights.pdf" TargetMode="External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28600" y="304920"/>
            <a:ext cx="8686800" cy="6264360"/>
          </a:xfrm>
          <a:prstGeom prst="rect">
            <a:avLst/>
          </a:prstGeom>
          <a:solidFill>
            <a:srgbClr val="cc00cc"/>
          </a:solidFill>
          <a:ln w="5724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3360" y="17445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50840" y="3726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32280" y="1592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699160" y="4259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562720" y="3505320"/>
            <a:ext cx="3429000" cy="313344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3366"/>
            </a:outerShdw>
          </a:effectLst>
        </p:spPr>
      </p:pic>
      <p:sp>
        <p:nvSpPr>
          <p:cNvPr id="237" name=""/>
          <p:cNvSpPr/>
          <p:nvPr/>
        </p:nvSpPr>
        <p:spPr>
          <a:xfrm>
            <a:off x="2727360" y="1973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4920" y="380880"/>
            <a:ext cx="4952880" cy="3429000"/>
          </a:xfrm>
          <a:prstGeom prst="wedgeEllipseCallout">
            <a:avLst>
              <a:gd name="adj1" fmla="val 77050"/>
              <a:gd name="adj2" fmla="val 6939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40160" y="60948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05480" y="533520"/>
            <a:ext cx="348012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 Black"/>
              </a:rPr>
              <a:t>School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 Black"/>
              </a:rPr>
              <a:t>Public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 Black"/>
              </a:rPr>
              <a:t>Relation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28600" y="304920"/>
            <a:ext cx="8686800" cy="6264360"/>
          </a:xfrm>
          <a:prstGeom prst="rect">
            <a:avLst/>
          </a:prstGeom>
          <a:solidFill>
            <a:srgbClr val="66ccff"/>
          </a:solidFill>
          <a:ln w="5724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13360" y="17445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50840" y="3726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32280" y="1592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699160" y="4259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5715000" y="3505320"/>
            <a:ext cx="3429000" cy="313344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3366"/>
            </a:outerShdw>
          </a:effectLst>
        </p:spPr>
      </p:pic>
      <p:sp>
        <p:nvSpPr>
          <p:cNvPr id="320" name=""/>
          <p:cNvSpPr/>
          <p:nvPr/>
        </p:nvSpPr>
        <p:spPr>
          <a:xfrm>
            <a:off x="2727360" y="1973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685800"/>
            <a:ext cx="5410080" cy="2514600"/>
          </a:xfrm>
          <a:prstGeom prst="wedgeEllipseCallout">
            <a:avLst>
              <a:gd name="adj1" fmla="val 60180"/>
              <a:gd name="adj2" fmla="val 10662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440160" y="60948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83920" y="200160"/>
            <a:ext cx="1314720" cy="276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ublic Re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674000" y="1143000"/>
            <a:ext cx="406404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What is the role of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Principal in develop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good schoo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public rela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889280" y="1973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228600" y="228600"/>
          <a:ext cx="8540640" cy="642132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28600"/>
                    <a:ext cx="8540640" cy="6421320"/>
                  </a:xfrm>
                  <a:prstGeom prst="rect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  <a:effectLst>
                    <a:outerShdw dist="107932" dir="8100000" blurRad="0" rotWithShape="0">
                      <a:srgbClr val="003366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328" name=""/>
          <p:cNvSpPr/>
          <p:nvPr/>
        </p:nvSpPr>
        <p:spPr>
          <a:xfrm>
            <a:off x="304920" y="152280"/>
            <a:ext cx="2438280" cy="276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ublic Re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17840" y="160020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259600" y="1828800"/>
            <a:ext cx="18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11280" y="838080"/>
            <a:ext cx="1807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46360" y="990720"/>
            <a:ext cx="545220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…</a:t>
            </a: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takes a leadership ro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…</a:t>
            </a: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refines and disseminates school ne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…</a:t>
            </a: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develops positive relationships with me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…</a:t>
            </a: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establishes open lines of commun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   </a:t>
            </a: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with commu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…</a:t>
            </a: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formulates plans and polic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553080" y="152280"/>
            <a:ext cx="2590920" cy="1447920"/>
          </a:xfrm>
          <a:prstGeom prst="cloudCallout">
            <a:avLst>
              <a:gd name="adj1" fmla="val -17097"/>
              <a:gd name="adj2" fmla="val 225986"/>
            </a:avLst>
          </a:prstGeom>
          <a:solidFill>
            <a:srgbClr val="c0c0c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 Black"/>
              </a:rPr>
              <a:t>The Princip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" y="304920"/>
            <a:ext cx="8686800" cy="6264360"/>
          </a:xfrm>
          <a:prstGeom prst="rect">
            <a:avLst/>
          </a:prstGeom>
          <a:solidFill>
            <a:srgbClr val="66ccff"/>
          </a:solidFill>
          <a:ln w="5724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013360" y="17445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050840" y="3726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032280" y="1592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699160" y="4259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5181480" y="3124080"/>
            <a:ext cx="3429000" cy="31338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3366"/>
            </a:outerShdw>
          </a:effectLst>
        </p:spPr>
      </p:pic>
      <p:sp>
        <p:nvSpPr>
          <p:cNvPr id="340" name=""/>
          <p:cNvSpPr/>
          <p:nvPr/>
        </p:nvSpPr>
        <p:spPr>
          <a:xfrm>
            <a:off x="2727360" y="1973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9480" y="685800"/>
            <a:ext cx="7391520" cy="1523880"/>
          </a:xfrm>
          <a:prstGeom prst="wedgeEllipseCallout">
            <a:avLst>
              <a:gd name="adj1" fmla="val 28736"/>
              <a:gd name="adj2" fmla="val 18968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440160" y="60948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83920" y="200160"/>
            <a:ext cx="1314720" cy="276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ublic Re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293480" y="1143000"/>
            <a:ext cx="6067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The principal understands “public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228600" y="304920"/>
            <a:ext cx="8686800" cy="6264360"/>
          </a:xfrm>
          <a:prstGeom prst="rect">
            <a:avLst/>
          </a:prstGeom>
          <a:solidFill>
            <a:srgbClr val="66ccff"/>
          </a:solidFill>
          <a:ln w="5724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13360" y="17445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050840" y="3726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032280" y="1592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99160" y="4259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5181480" y="3124080"/>
            <a:ext cx="3429000" cy="31338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3366"/>
            </a:outerShdw>
          </a:effectLst>
        </p:spPr>
      </p:pic>
      <p:sp>
        <p:nvSpPr>
          <p:cNvPr id="351" name=""/>
          <p:cNvSpPr/>
          <p:nvPr/>
        </p:nvSpPr>
        <p:spPr>
          <a:xfrm>
            <a:off x="2727360" y="1973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09480" y="685800"/>
            <a:ext cx="6782040" cy="1523880"/>
          </a:xfrm>
          <a:prstGeom prst="wedgeEllipseCallout">
            <a:avLst>
              <a:gd name="adj1" fmla="val 35814"/>
              <a:gd name="adj2" fmla="val 18968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440160" y="60948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3920" y="200160"/>
            <a:ext cx="1314720" cy="276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ublic Re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639800" y="838080"/>
            <a:ext cx="451656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Each public has its ow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personality, size, interest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and orga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889280" y="1973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228600" y="304920"/>
          <a:ext cx="8540640" cy="642132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304920"/>
                    <a:ext cx="8540640" cy="6421320"/>
                  </a:xfrm>
                  <a:prstGeom prst="rect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  <a:effectLst>
                    <a:outerShdw dist="107932" dir="8100000" blurRad="0" rotWithShape="0">
                      <a:srgbClr val="003366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304920" y="152280"/>
            <a:ext cx="2438280" cy="276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ublic Re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517840" y="160020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259600" y="1828800"/>
            <a:ext cx="18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11280" y="838080"/>
            <a:ext cx="1807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03720" y="2085840"/>
            <a:ext cx="5799600" cy="1496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External public— 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that group that 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not in the build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or distri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657600" y="152280"/>
            <a:ext cx="5486400" cy="1981440"/>
          </a:xfrm>
          <a:prstGeom prst="cloudCallout">
            <a:avLst>
              <a:gd name="adj1" fmla="val 31277"/>
              <a:gd name="adj2" fmla="val 198958"/>
            </a:avLst>
          </a:prstGeom>
          <a:solidFill>
            <a:srgbClr val="c0c0c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 Black"/>
              </a:rPr>
              <a:t>The Principal understands the dynamics of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69400" y="3048120"/>
            <a:ext cx="487296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cc"/>
                </a:solidFill>
                <a:latin typeface="Arial Black"/>
              </a:rPr>
              <a:t>Parents</a:t>
            </a:r>
            <a:r>
              <a:rPr b="0" i="1" lang="en-US" sz="2000" spc="-1" strike="noStrike">
                <a:solidFill>
                  <a:srgbClr val="cc00cc"/>
                </a:solidFill>
                <a:latin typeface="Arial Black"/>
              </a:rPr>
              <a:t>	</a:t>
            </a:r>
            <a:r>
              <a:rPr b="0" i="1" lang="en-US" sz="2000" spc="-1" strike="noStrike">
                <a:solidFill>
                  <a:srgbClr val="cc00cc"/>
                </a:solidFill>
                <a:latin typeface="Arial Black"/>
              </a:rPr>
              <a:t>	</a:t>
            </a:r>
            <a:r>
              <a:rPr b="0" i="1" lang="en-US" sz="2000" spc="-1" strike="noStrike">
                <a:solidFill>
                  <a:srgbClr val="cc00cc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cc"/>
                </a:solidFill>
                <a:latin typeface="Arial Black"/>
              </a:rPr>
              <a:t>Clubs &amp; community service organiz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cc"/>
                </a:solidFill>
                <a:latin typeface="Arial Black"/>
              </a:rPr>
              <a:t>Parent-teacher associ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cc"/>
                </a:solidFill>
                <a:latin typeface="Arial Black"/>
              </a:rPr>
              <a:t>Business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cc"/>
                </a:solidFill>
                <a:latin typeface="Arial Black"/>
              </a:rPr>
              <a:t>Adults who do not have children in scho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cc"/>
                </a:solidFill>
                <a:latin typeface="Arial Black"/>
              </a:rPr>
              <a:t>Civic groups and lea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889280" y="1973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228600" y="228600"/>
          <a:ext cx="8540640" cy="642132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28600"/>
                    <a:ext cx="8540640" cy="6421320"/>
                  </a:xfrm>
                  <a:prstGeom prst="rect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  <a:effectLst>
                    <a:outerShdw dist="107932" dir="8100000" blurRad="0" rotWithShape="0">
                      <a:srgbClr val="003366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304920" y="152280"/>
            <a:ext cx="2438280" cy="276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ublic Re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517840" y="160020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600" y="1828800"/>
            <a:ext cx="18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11280" y="838080"/>
            <a:ext cx="1807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52840" y="2009880"/>
            <a:ext cx="5519160" cy="1496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Internal public— 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those groups with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the building 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distri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3400" y="152280"/>
            <a:ext cx="4800600" cy="1676520"/>
          </a:xfrm>
          <a:prstGeom prst="cloudCallout">
            <a:avLst>
              <a:gd name="adj1" fmla="val 32375"/>
              <a:gd name="adj2" fmla="val 243467"/>
            </a:avLst>
          </a:prstGeom>
          <a:solidFill>
            <a:srgbClr val="c0c0c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 Black"/>
              </a:rPr>
              <a:t>The Principal understands the dynamics of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95960" y="2847960"/>
            <a:ext cx="262080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cc"/>
                </a:solidFill>
                <a:latin typeface="Arial Black"/>
              </a:rPr>
              <a:t>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cc"/>
                </a:solidFill>
                <a:latin typeface="Arial Black"/>
              </a:rPr>
              <a:t>Teac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cc"/>
                </a:solidFill>
                <a:latin typeface="Arial Black"/>
              </a:rPr>
              <a:t>Support Sta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cc"/>
                </a:solidFill>
                <a:latin typeface="Arial Black"/>
              </a:rPr>
              <a:t>Other School S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cc"/>
                </a:solidFill>
                <a:latin typeface="Arial Black"/>
              </a:rPr>
              <a:t>Central Off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28600" y="304920"/>
            <a:ext cx="8686800" cy="6264360"/>
          </a:xfrm>
          <a:prstGeom prst="rect">
            <a:avLst/>
          </a:prstGeom>
          <a:solidFill>
            <a:srgbClr val="66ccff"/>
          </a:solidFill>
          <a:ln w="5724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013360" y="17445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50840" y="3726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032280" y="1592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699160" y="4259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5181480" y="3124080"/>
            <a:ext cx="3429000" cy="31338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3366"/>
            </a:outerShdw>
          </a:effectLst>
        </p:spPr>
      </p:pic>
      <p:sp>
        <p:nvSpPr>
          <p:cNvPr id="382" name=""/>
          <p:cNvSpPr/>
          <p:nvPr/>
        </p:nvSpPr>
        <p:spPr>
          <a:xfrm>
            <a:off x="2727360" y="1973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4920" y="533520"/>
            <a:ext cx="6476760" cy="2590560"/>
          </a:xfrm>
          <a:prstGeom prst="wedgeEllipseCallout">
            <a:avLst>
              <a:gd name="adj1" fmla="val 45736"/>
              <a:gd name="adj2" fmla="val 9393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440160" y="60948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83920" y="200160"/>
            <a:ext cx="1314720" cy="276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ublic Re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101960" y="838080"/>
            <a:ext cx="500112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Principals must underst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interrelationships of variou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publics, their unique structur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collective personalities, interest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and political impor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889280" y="1973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52280" y="228600"/>
          <a:ext cx="8541000" cy="642132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8541000" cy="6421320"/>
                  </a:xfrm>
                  <a:prstGeom prst="rect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  <a:effectLst>
                    <a:outerShdw dist="107932" dir="8100000" blurRad="0" rotWithShape="0">
                      <a:srgbClr val="003366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390" name=""/>
          <p:cNvSpPr/>
          <p:nvPr/>
        </p:nvSpPr>
        <p:spPr>
          <a:xfrm>
            <a:off x="304920" y="152280"/>
            <a:ext cx="2438280" cy="276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ublic Re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517840" y="160020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259600" y="1828800"/>
            <a:ext cx="18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11280" y="838080"/>
            <a:ext cx="1807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32760" y="838080"/>
            <a:ext cx="495252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…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warm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…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accep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…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tole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…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understa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…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cooper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…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objective rather than emot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477120" y="152280"/>
            <a:ext cx="2514600" cy="1067040"/>
          </a:xfrm>
          <a:prstGeom prst="cloudCallout">
            <a:avLst>
              <a:gd name="adj1" fmla="val -11490"/>
              <a:gd name="adj2" fmla="val 324106"/>
            </a:avLst>
          </a:prstGeom>
          <a:solidFill>
            <a:srgbClr val="c0c0c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 Black"/>
              </a:rPr>
              <a:t>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228600" y="304920"/>
            <a:ext cx="8686800" cy="6264360"/>
          </a:xfrm>
          <a:prstGeom prst="rect">
            <a:avLst/>
          </a:prstGeom>
          <a:solidFill>
            <a:srgbClr val="66ccff"/>
          </a:solidFill>
          <a:ln w="5724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013360" y="17445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050840" y="3726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032280" y="1592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699160" y="4259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429000" cy="313344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3366"/>
            </a:outerShdw>
          </a:effectLst>
        </p:spPr>
      </p:pic>
      <p:sp>
        <p:nvSpPr>
          <p:cNvPr id="402" name=""/>
          <p:cNvSpPr/>
          <p:nvPr/>
        </p:nvSpPr>
        <p:spPr>
          <a:xfrm>
            <a:off x="2727360" y="1973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28600" y="685800"/>
            <a:ext cx="6400800" cy="2209680"/>
          </a:xfrm>
          <a:prstGeom prst="wedgeEllipseCallout">
            <a:avLst>
              <a:gd name="adj1" fmla="val 47050"/>
              <a:gd name="adj2" fmla="val 12737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440160" y="60948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83920" y="200160"/>
            <a:ext cx="1314720" cy="276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ublic Re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273680" y="1066680"/>
            <a:ext cx="439164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The principal must develop 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climate conducive to goo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working relationships wi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publics and me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228600" y="304920"/>
            <a:ext cx="8686800" cy="6264360"/>
          </a:xfrm>
          <a:prstGeom prst="rect">
            <a:avLst/>
          </a:prstGeom>
          <a:solidFill>
            <a:srgbClr val="cc00cc"/>
          </a:solidFill>
          <a:ln w="5724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013360" y="17445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050840" y="3726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032280" y="1592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699160" y="4259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5562720" y="3505320"/>
            <a:ext cx="3429000" cy="313344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3366"/>
            </a:outerShdw>
          </a:effectLst>
        </p:spPr>
      </p:pic>
      <p:sp>
        <p:nvSpPr>
          <p:cNvPr id="413" name=""/>
          <p:cNvSpPr/>
          <p:nvPr/>
        </p:nvSpPr>
        <p:spPr>
          <a:xfrm>
            <a:off x="2727360" y="1973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990720" y="609480"/>
            <a:ext cx="6019560" cy="3124440"/>
          </a:xfrm>
          <a:prstGeom prst="wedgeEllipseCallout">
            <a:avLst>
              <a:gd name="adj1" fmla="val 45305"/>
              <a:gd name="adj2" fmla="val 7438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440160" y="60948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24160" y="152280"/>
            <a:ext cx="2444040" cy="276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reating a Public Relations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203480" y="111600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253960" y="762120"/>
            <a:ext cx="344664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 Black"/>
              </a:rPr>
              <a:t>Creating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 Black"/>
              </a:rPr>
              <a:t>a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 Black"/>
              </a:rPr>
              <a:t>PR Pla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Monotype Corsiva"/>
              </a:rPr>
              <a:t>The surest way to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Monotype Corsiva"/>
              </a:rPr>
              <a:t>kill a bad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Monotype Corsiva"/>
              </a:rPr>
              <a:t>product is to advertise it.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6149160" y="5743440"/>
            <a:ext cx="264492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otype Corsiva"/>
              </a:rPr>
              <a:t>Mike Flynn, Darcy Advertis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9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Most public relations effort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2638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have as much impact on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2638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school/district performanc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2638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as a rain dance has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2638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on the weather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"/>
          <p:cNvSpPr/>
          <p:nvPr/>
        </p:nvSpPr>
        <p:spPr>
          <a:xfrm>
            <a:off x="6308640" y="6004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28600" y="304920"/>
            <a:ext cx="8686800" cy="6264360"/>
          </a:xfrm>
          <a:prstGeom prst="rect">
            <a:avLst/>
          </a:prstGeom>
          <a:solidFill>
            <a:srgbClr val="66ccff"/>
          </a:solidFill>
          <a:ln w="5724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013360" y="17445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050840" y="3726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032280" y="1592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699160" y="4259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5181480" y="3124080"/>
            <a:ext cx="3429000" cy="31338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3366"/>
            </a:outerShdw>
          </a:effectLst>
        </p:spPr>
      </p:pic>
      <p:sp>
        <p:nvSpPr>
          <p:cNvPr id="428" name=""/>
          <p:cNvSpPr/>
          <p:nvPr/>
        </p:nvSpPr>
        <p:spPr>
          <a:xfrm>
            <a:off x="2727360" y="1973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40160" y="60948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47840" y="152280"/>
            <a:ext cx="2444040" cy="276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reating a Public Relations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311280" y="533520"/>
            <a:ext cx="4321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Do these sound familia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1523880"/>
            <a:ext cx="5105160" cy="3448080"/>
          </a:xfrm>
          <a:prstGeom prst="rect">
            <a:avLst/>
          </a:prstGeom>
          <a:solidFill>
            <a:srgbClr val="c0c0c0"/>
          </a:solidFill>
          <a:ln w="38160">
            <a:solidFill>
              <a:srgbClr val="cc00cc"/>
            </a:solidFill>
            <a:miter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 Black"/>
              </a:rPr>
              <a:t>1. We notified everybody.  W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cc00cc"/>
                </a:solidFill>
                <a:latin typeface="Arial Black"/>
              </a:rPr>
              <a:t>sent a letter/memo ou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 Black"/>
              </a:rPr>
              <a:t>2. We tried some PR.  We mail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cc00cc"/>
                </a:solidFill>
                <a:latin typeface="Arial Black"/>
              </a:rPr>
              <a:t>a press release Press k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 Black"/>
              </a:rPr>
              <a:t>3. Communication?  Our newsletter goes to over 50,000 peo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 Black"/>
              </a:rPr>
              <a:t>4. Publicity?  Let’s do a publ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cc00cc"/>
                </a:solidFill>
                <a:latin typeface="Arial Black"/>
              </a:rPr>
              <a:t>service announce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 Black"/>
              </a:rPr>
              <a:t>5. Marketing:  We’ve distribut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cc00cc"/>
                </a:solidFill>
                <a:latin typeface="Arial Black"/>
              </a:rPr>
              <a:t>over one Kazillion brochur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895480" y="228600"/>
            <a:ext cx="5257800" cy="1143000"/>
          </a:xfrm>
          <a:prstGeom prst="wedgeEllipseCallout">
            <a:avLst>
              <a:gd name="adj1" fmla="val 17208"/>
              <a:gd name="adj2" fmla="val 30958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463560" y="533520"/>
            <a:ext cx="4321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Do these sound familia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Effective marketing is really applied common sens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"/>
          <p:cNvSpPr/>
          <p:nvPr/>
        </p:nvSpPr>
        <p:spPr>
          <a:xfrm>
            <a:off x="4998600" y="5927760"/>
            <a:ext cx="3654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Nora K. Carr, St. Louis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228600" y="304920"/>
            <a:ext cx="8686800" cy="6264360"/>
          </a:xfrm>
          <a:prstGeom prst="rect">
            <a:avLst/>
          </a:prstGeom>
          <a:solidFill>
            <a:srgbClr val="66ccff"/>
          </a:solidFill>
          <a:ln w="5724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013360" y="17445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050840" y="3726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032280" y="1592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699160" y="4259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727360" y="1973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440160" y="60948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47840" y="152280"/>
            <a:ext cx="2444040" cy="276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reating a Public Relations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2743200" cy="17226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4114800" y="1676520"/>
            <a:ext cx="313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cc00cc"/>
                </a:solidFill>
                <a:latin typeface="Comic Sans MS"/>
              </a:rPr>
              <a:t>RAC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21800" y="3124080"/>
            <a:ext cx="3926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 Black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searc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 Black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alysis &amp; 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 Black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mmun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 Black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valu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053680" y="38098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Arial Black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068520" y="3733920"/>
            <a:ext cx="22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Arial Black"/>
              </a:rPr>
              <a:t>RESUL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505320" y="0"/>
            <a:ext cx="3733560" cy="914400"/>
          </a:xfrm>
          <a:prstGeom prst="wedgeEllipseCallout">
            <a:avLst>
              <a:gd name="adj1" fmla="val -89796"/>
              <a:gd name="adj2" fmla="val 13923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818520" y="228600"/>
            <a:ext cx="30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Remember to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3"/>
          <a:stretch/>
        </p:blipFill>
        <p:spPr>
          <a:xfrm>
            <a:off x="7010280" y="609480"/>
            <a:ext cx="1981440" cy="1782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228600" y="304920"/>
            <a:ext cx="8686800" cy="6264360"/>
          </a:xfrm>
          <a:prstGeom prst="rect">
            <a:avLst/>
          </a:prstGeom>
          <a:solidFill>
            <a:srgbClr val="66ccff"/>
          </a:solidFill>
          <a:ln w="5724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013360" y="17445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050840" y="3726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032280" y="1592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699160" y="4259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5181480" y="3124080"/>
            <a:ext cx="3429000" cy="31338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3366"/>
            </a:outerShdw>
          </a:effectLst>
        </p:spPr>
      </p:pic>
      <p:sp>
        <p:nvSpPr>
          <p:cNvPr id="460" name=""/>
          <p:cNvSpPr/>
          <p:nvPr/>
        </p:nvSpPr>
        <p:spPr>
          <a:xfrm>
            <a:off x="2727360" y="1973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28600" y="685800"/>
            <a:ext cx="6400800" cy="2514600"/>
          </a:xfrm>
          <a:prstGeom prst="wedgeEllipseCallout">
            <a:avLst>
              <a:gd name="adj1" fmla="val 46875"/>
              <a:gd name="adj2" fmla="val 9526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440160" y="60948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47840" y="152280"/>
            <a:ext cx="2444040" cy="276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reating a Public Relations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608840" y="1222200"/>
            <a:ext cx="346068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cc"/>
                </a:solidFill>
                <a:latin typeface="Arial Black"/>
              </a:rPr>
              <a:t>R</a:t>
            </a:r>
            <a:r>
              <a:rPr b="0" lang="en-US" sz="6000" spc="-1" strike="noStrike">
                <a:solidFill>
                  <a:srgbClr val="000066"/>
                </a:solidFill>
                <a:latin typeface="Arial Black"/>
              </a:rPr>
              <a:t>esear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5638680" cy="609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Questions to ask…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makes your school uniqu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do people find out about your schoo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people perceive your school differently than yo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ceive your school? Wh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y do parents/students choose your school, programs?  Why do they choose your competitor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are the values, lifestyles, interests of your customers?  What to they do for a living?  Educational level?  Are they happy?  Disappoint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are you communicating with the most?  Who should you be communicating and relating with mor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is critical to your success?  Why?  How close are you to them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28600" y="304920"/>
            <a:ext cx="8686800" cy="6264360"/>
          </a:xfrm>
          <a:prstGeom prst="rect">
            <a:avLst/>
          </a:prstGeom>
          <a:solidFill>
            <a:srgbClr val="66ccff"/>
          </a:solidFill>
          <a:ln w="5724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013360" y="17445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050840" y="3726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032280" y="1592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699160" y="4259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5181480" y="3124080"/>
            <a:ext cx="3429000" cy="31338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3366"/>
            </a:outerShdw>
          </a:effectLst>
        </p:spPr>
      </p:pic>
      <p:sp>
        <p:nvSpPr>
          <p:cNvPr id="473" name=""/>
          <p:cNvSpPr/>
          <p:nvPr/>
        </p:nvSpPr>
        <p:spPr>
          <a:xfrm>
            <a:off x="2727360" y="1973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04920" y="152280"/>
            <a:ext cx="6324480" cy="3733920"/>
          </a:xfrm>
          <a:prstGeom prst="wedgeEllipseCallout">
            <a:avLst>
              <a:gd name="adj1" fmla="val 46837"/>
              <a:gd name="adj2" fmla="val 6211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440160" y="60948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47840" y="152280"/>
            <a:ext cx="2444040" cy="276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reating a Public Relations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521000" y="533520"/>
            <a:ext cx="33462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cc"/>
                </a:solidFill>
                <a:latin typeface="Arial Black"/>
              </a:rPr>
              <a:t>A</a:t>
            </a:r>
            <a:r>
              <a:rPr b="0" lang="en-US" sz="6000" spc="-1" strike="noStrike">
                <a:solidFill>
                  <a:srgbClr val="000066"/>
                </a:solidFill>
                <a:latin typeface="Arial Black"/>
              </a:rPr>
              <a:t>nalysis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 Black"/>
              </a:rPr>
              <a:t>&amp;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 Black"/>
              </a:rPr>
              <a:t>Plann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Monotype Corsiva"/>
              </a:rPr>
              <a:t>Focus is the secret ingredient in virtually every successful marketing plan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"/>
          <p:cNvSpPr/>
          <p:nvPr/>
        </p:nvSpPr>
        <p:spPr>
          <a:xfrm>
            <a:off x="5171760" y="5775480"/>
            <a:ext cx="3961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Trout &amp; Ries, Bottom-Up 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239240" cy="1752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alyze data generated fro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s or other collection instruments and develop a pla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560" y="21333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GOA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impact attitude, opinion,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havior or a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FOCUS ON WHAT THE CUSTOM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Parents, Community etc.) </a:t>
            </a: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VALU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IMPLEMENT STRATEGY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est way to reach, move, influence target audi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228600" y="304920"/>
            <a:ext cx="8686800" cy="6264360"/>
          </a:xfrm>
          <a:prstGeom prst="rect">
            <a:avLst/>
          </a:prstGeom>
          <a:solidFill>
            <a:srgbClr val="66ccff"/>
          </a:solidFill>
          <a:ln w="5724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013360" y="17445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050840" y="3726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032280" y="1592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699160" y="4259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5181480" y="3124080"/>
            <a:ext cx="3429000" cy="31338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3366"/>
            </a:outerShdw>
          </a:effectLst>
        </p:spPr>
      </p:pic>
      <p:sp>
        <p:nvSpPr>
          <p:cNvPr id="489" name=""/>
          <p:cNvSpPr/>
          <p:nvPr/>
        </p:nvSpPr>
        <p:spPr>
          <a:xfrm>
            <a:off x="2727360" y="1973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28600" y="685800"/>
            <a:ext cx="6400800" cy="1828800"/>
          </a:xfrm>
          <a:prstGeom prst="wedgeEllipseCallout">
            <a:avLst>
              <a:gd name="adj1" fmla="val 46875"/>
              <a:gd name="adj2" fmla="val 14974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440160" y="60948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47840" y="152280"/>
            <a:ext cx="2444040" cy="276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reating a Public Relations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163520" y="990720"/>
            <a:ext cx="492804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Determine your Strength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Weaknesses, Opportunitie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Thre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Highlights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f the 2009</a:t>
            </a:r>
            <a:br>
              <a:rPr sz="4400"/>
            </a:b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Phi Delta Kappa/Gallup Poll</a:t>
            </a:r>
            <a:br>
              <a:rPr sz="4400"/>
            </a:b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Public's Attitudes Toward the Public Schools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66320" y="5562360"/>
            <a:ext cx="7620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PDK Gallup Highligh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61760" y="-627120"/>
            <a:ext cx="6794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143000" y="2282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eep it personal; focus on opinion lead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gment!  Segment!  Segment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and involvement in your school through advisory groups, sub-committe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community and district resour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y something new!  Explore ways to make new technology more intim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several channels to reach each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di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838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ublic Relations Id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wsletters –often mailed to parents at PTA expen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ws Tips Sheets –brief (who, what, when wher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chool Web Si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hone Calling-Connect-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xt Mess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sit local newspaper offices – meet report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ublicize teacher inservice – ex. Accelerated Reader Progr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urteous personal contac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eakfast with par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-registration counseling with students &amp; par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838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ublic Relations Id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 recognition – award, bulletin boards, newspapers, et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nior ID cards –free admission to ev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opt a stud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n House –have students and parents pres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ning Meals –business and professional lead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ent conferen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838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ublic Relations Id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n shop –possible one night per we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forming student group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uterized assignment syst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adow a stud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tside marque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tters to parents –honor ro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blish Honor Rolls in newspap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od conduct award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838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ublic Relations Id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od news cards –hand out to parents at evening mee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oster club meetings after ball gam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ndparent’s D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lowers to mothers on mother’s d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wards assembl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itizenship and Good Deeds d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838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ublic Relations Id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848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nounce student birthdays over morning interc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hool picnic –invite parents in for special activ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s seen doing something goo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ni-school for parents –entire day follow the schedule of their childr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nior citizen Thanksgiving dinn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nior citizen Pen-Pal clu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838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ublic Relations Id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sitive phone calls from teac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eer d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hool page in local newspap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hool web p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ve out school email addresses to par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b-based grading and homework si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ent-Advisory Committe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ining community organizations (Rotary club etc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838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ublic Relations Id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aking at community meetings (Homeowner’s Association meeting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hool renewal d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hool-based enterpri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fter-school day c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ning the building after hours for community use (scout meetings, computer lab use, library us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160" y="-8568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Strategies that break the mold grow initially like weeds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They are not cultivated like tomatoes in a hothous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>
            <a:off x="3226320" y="6019920"/>
            <a:ext cx="6371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Henry Mintzberg, “The Rise and Fall of Strategic Planning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228600" y="304920"/>
            <a:ext cx="8686800" cy="6264360"/>
          </a:xfrm>
          <a:prstGeom prst="rect">
            <a:avLst/>
          </a:prstGeom>
          <a:solidFill>
            <a:srgbClr val="66ccff"/>
          </a:solidFill>
          <a:ln w="5724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013360" y="17445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050840" y="3726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032280" y="1592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699160" y="4259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5181480" y="3124080"/>
            <a:ext cx="3429000" cy="31338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3366"/>
            </a:outerShdw>
          </a:effectLst>
        </p:spPr>
      </p:pic>
      <p:sp>
        <p:nvSpPr>
          <p:cNvPr id="519" name=""/>
          <p:cNvSpPr/>
          <p:nvPr/>
        </p:nvSpPr>
        <p:spPr>
          <a:xfrm>
            <a:off x="2727360" y="1973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685800"/>
            <a:ext cx="7315200" cy="1523880"/>
          </a:xfrm>
          <a:prstGeom prst="wedgeEllipseCallout">
            <a:avLst>
              <a:gd name="adj1" fmla="val 31638"/>
              <a:gd name="adj2" fmla="val 18968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440160" y="60948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47840" y="152280"/>
            <a:ext cx="2444040" cy="276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reating a Public Relations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245240" y="838080"/>
            <a:ext cx="588816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cc"/>
                </a:solidFill>
                <a:latin typeface="Arial Black"/>
              </a:rPr>
              <a:t>C</a:t>
            </a:r>
            <a:r>
              <a:rPr b="0" lang="en-US" sz="6000" spc="-1" strike="noStrike">
                <a:solidFill>
                  <a:srgbClr val="000066"/>
                </a:solidFill>
                <a:latin typeface="Arial Black"/>
              </a:rPr>
              <a:t>ommunica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28600" y="304920"/>
            <a:ext cx="8686800" cy="6264360"/>
          </a:xfrm>
          <a:prstGeom prst="rect">
            <a:avLst/>
          </a:prstGeom>
          <a:solidFill>
            <a:srgbClr val="66ccff"/>
          </a:solidFill>
          <a:ln w="5724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013360" y="17445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50840" y="3726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32280" y="1592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699160" y="4259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7391520" y="5256360"/>
            <a:ext cx="1752480" cy="160164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3366"/>
            </a:outerShdw>
          </a:effectLst>
        </p:spPr>
      </p:pic>
      <p:sp>
        <p:nvSpPr>
          <p:cNvPr id="252" name=""/>
          <p:cNvSpPr/>
          <p:nvPr/>
        </p:nvSpPr>
        <p:spPr>
          <a:xfrm>
            <a:off x="2727360" y="1973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52280" y="609480"/>
            <a:ext cx="8763120" cy="3733920"/>
          </a:xfrm>
          <a:prstGeom prst="wedgeEllipseCallout">
            <a:avLst>
              <a:gd name="adj1" fmla="val 39222"/>
              <a:gd name="adj2" fmla="val 8864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40160" y="60948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3920" y="200160"/>
            <a:ext cx="1314720" cy="276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ublic Re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99680" y="1143000"/>
            <a:ext cx="6375960" cy="283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 Black"/>
              </a:rPr>
              <a:t>School public relations</a:t>
            </a: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 is a solid, long-rang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and democratic course of action.  It is a proc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that attempts to foster understanding and friendl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working relationships between schools and thei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communities in order that they may not only ser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educational needs but also select more intelligentl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the media and activities which will keep peop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informed about the schools, their purpo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programs, progress, and proble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72200" y="0"/>
            <a:ext cx="2971800" cy="1066680"/>
          </a:xfrm>
          <a:prstGeom prst="cloudCallout">
            <a:avLst>
              <a:gd name="adj1" fmla="val 24467"/>
              <a:gd name="adj2" fmla="val 437203"/>
            </a:avLst>
          </a:prstGeom>
          <a:solidFill>
            <a:srgbClr val="c0c0c0"/>
          </a:solidFill>
          <a:ln w="9360">
            <a:solidFill>
              <a:srgbClr val="cc00cc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cc"/>
                </a:solidFill>
                <a:latin typeface="Arial Black"/>
              </a:rPr>
              <a:t>Not simply publicity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701028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erarchy of Effective Commun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-to-one, face to f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mall group discussion/mee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aking before a medium-sized grou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hone convers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mail or text mess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nd-written, personal no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ewritten, personal letter not generated by compu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uter generated “personal” let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ss-produced, non-personalized let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ochure or pamphlet sent out as a “direct mail” pie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ticle in organizational newsletter, magazine, posters, et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w carried in popular pr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vertising in newspapers, radio, TV, magazines, posters, et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less effective forms of communication (billboards, skywriters, pens, “give-aways,” etc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228600" y="304920"/>
            <a:ext cx="8686800" cy="6264360"/>
          </a:xfrm>
          <a:prstGeom prst="rect">
            <a:avLst/>
          </a:prstGeom>
          <a:solidFill>
            <a:srgbClr val="66ccff"/>
          </a:solidFill>
          <a:ln w="5724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013360" y="17445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050840" y="3726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032280" y="1592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699160" y="4259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5181480" y="3124080"/>
            <a:ext cx="3429000" cy="31338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3366"/>
            </a:outerShdw>
          </a:effectLst>
        </p:spPr>
      </p:pic>
      <p:sp>
        <p:nvSpPr>
          <p:cNvPr id="532" name=""/>
          <p:cNvSpPr/>
          <p:nvPr/>
        </p:nvSpPr>
        <p:spPr>
          <a:xfrm>
            <a:off x="2727360" y="1973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28600" y="685800"/>
            <a:ext cx="6400800" cy="1752480"/>
          </a:xfrm>
          <a:prstGeom prst="wedgeEllipseCallout">
            <a:avLst>
              <a:gd name="adj1" fmla="val 46875"/>
              <a:gd name="adj2" fmla="val 15842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440160" y="60948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47840" y="152280"/>
            <a:ext cx="2444040" cy="276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reating a Public Relations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307520" y="993600"/>
            <a:ext cx="392076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cc"/>
                </a:solidFill>
                <a:latin typeface="Arial Black"/>
              </a:rPr>
              <a:t>E</a:t>
            </a:r>
            <a:r>
              <a:rPr b="0" lang="en-US" sz="6000" spc="-1" strike="noStrike">
                <a:solidFill>
                  <a:srgbClr val="000066"/>
                </a:solidFill>
                <a:latin typeface="Arial Black"/>
              </a:rPr>
              <a:t>valua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286000" y="151920"/>
            <a:ext cx="4038480" cy="838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k…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o are we reaching now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 what tools/channels of communication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should we be emphasizing mo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best way to reach our target audienc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has been most effective in the past? Wh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new avenues should we explo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resources do we hav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free help can we ge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o can we collaborate with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80720" y="304920"/>
            <a:ext cx="4280040" cy="914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voi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 using data in making decis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 reporting information; or not developing reports that encourage other to use inform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sinform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getting to tell people how to use the information you collect or discove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228600" y="304920"/>
            <a:ext cx="8686800" cy="6264360"/>
          </a:xfrm>
          <a:prstGeom prst="rect">
            <a:avLst/>
          </a:prstGeom>
          <a:solidFill>
            <a:srgbClr val="cc00cc"/>
          </a:solidFill>
          <a:ln w="5724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013360" y="17445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050840" y="3726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032280" y="1592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699160" y="4259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5181480" y="3124080"/>
            <a:ext cx="3429000" cy="31338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3366"/>
            </a:outerShdw>
          </a:effectLst>
        </p:spPr>
      </p:pic>
      <p:sp>
        <p:nvSpPr>
          <p:cNvPr id="547" name=""/>
          <p:cNvSpPr/>
          <p:nvPr/>
        </p:nvSpPr>
        <p:spPr>
          <a:xfrm>
            <a:off x="2727360" y="1973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838080"/>
            <a:ext cx="4800600" cy="1524240"/>
          </a:xfrm>
          <a:prstGeom prst="wedgeEllipseCallout">
            <a:avLst>
              <a:gd name="adj1" fmla="val 69643"/>
              <a:gd name="adj2" fmla="val 17968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440160" y="60948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009440" y="152280"/>
            <a:ext cx="1314720" cy="276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ublic Re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275120" y="993600"/>
            <a:ext cx="36295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 Black"/>
              </a:rPr>
              <a:t>Summar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251480" cy="838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ublic Relations Essenti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ffective PR &amp; Marketing means building relationship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is better to have many people involved in your PR plan, understanding that efficiency may suffer some, than to have one person do everything perfect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your PR &amp; Marketing program isn’t tied to your organization’s critical issues, you are going about it the wrong w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best way to kill a bad product is to advertise 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28600" y="304920"/>
            <a:ext cx="8686800" cy="6264360"/>
          </a:xfrm>
          <a:prstGeom prst="rect">
            <a:avLst/>
          </a:prstGeom>
          <a:solidFill>
            <a:srgbClr val="66ccff"/>
          </a:solidFill>
          <a:ln w="5724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13360" y="17445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50840" y="3726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32280" y="1592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99160" y="4259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6172200" y="4114800"/>
            <a:ext cx="2819520" cy="257652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3366"/>
            </a:outerShdw>
          </a:effectLst>
        </p:spPr>
      </p:pic>
      <p:sp>
        <p:nvSpPr>
          <p:cNvPr id="264" name=""/>
          <p:cNvSpPr/>
          <p:nvPr/>
        </p:nvSpPr>
        <p:spPr>
          <a:xfrm>
            <a:off x="2727360" y="1973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52280" y="609480"/>
            <a:ext cx="7010640" cy="3124440"/>
          </a:xfrm>
          <a:prstGeom prst="wedgeEllipseCallout">
            <a:avLst>
              <a:gd name="adj1" fmla="val 49546"/>
              <a:gd name="adj2" fmla="val 9283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40160" y="60948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83920" y="200160"/>
            <a:ext cx="1314720" cy="276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ublic Re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508040" y="1492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160280" y="1066680"/>
            <a:ext cx="5046840" cy="265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Effective public relations</a:t>
            </a: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 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a planned two-way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in which educators and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public work together to m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the educational needs o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childr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28600" y="304920"/>
            <a:ext cx="8686800" cy="6264360"/>
          </a:xfrm>
          <a:prstGeom prst="rect">
            <a:avLst/>
          </a:prstGeom>
          <a:solidFill>
            <a:srgbClr val="66ccff"/>
          </a:solidFill>
          <a:ln w="5724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13360" y="17445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050840" y="3726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32280" y="1592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99160" y="4259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181480" y="3124080"/>
            <a:ext cx="3429000" cy="31338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3366"/>
            </a:outerShdw>
          </a:effectLst>
        </p:spPr>
      </p:pic>
      <p:sp>
        <p:nvSpPr>
          <p:cNvPr id="276" name=""/>
          <p:cNvSpPr/>
          <p:nvPr/>
        </p:nvSpPr>
        <p:spPr>
          <a:xfrm>
            <a:off x="2727360" y="1973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8600" y="685800"/>
            <a:ext cx="5943600" cy="1828800"/>
          </a:xfrm>
          <a:prstGeom prst="wedgeEllipseCallout">
            <a:avLst>
              <a:gd name="adj1" fmla="val 54328"/>
              <a:gd name="adj2" fmla="val 14974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40160" y="60948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83920" y="200160"/>
            <a:ext cx="1314720" cy="276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ublic Re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729800" y="1143000"/>
            <a:ext cx="33901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There is a need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Public Relations…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28600" y="304920"/>
            <a:ext cx="8686800" cy="6264360"/>
          </a:xfrm>
          <a:prstGeom prst="rect">
            <a:avLst/>
          </a:prstGeom>
          <a:solidFill>
            <a:srgbClr val="66ccff"/>
          </a:solidFill>
          <a:ln w="5724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013360" y="17445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050840" y="3726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32280" y="1592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699160" y="4259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6172200" y="4281480"/>
            <a:ext cx="2819520" cy="257652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3366"/>
            </a:outerShdw>
          </a:effectLst>
        </p:spPr>
      </p:pic>
      <p:sp>
        <p:nvSpPr>
          <p:cNvPr id="287" name=""/>
          <p:cNvSpPr/>
          <p:nvPr/>
        </p:nvSpPr>
        <p:spPr>
          <a:xfrm>
            <a:off x="2727360" y="1973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" y="685800"/>
            <a:ext cx="7620120" cy="3352680"/>
          </a:xfrm>
          <a:prstGeom prst="wedgeEllipseCallout">
            <a:avLst>
              <a:gd name="adj1" fmla="val 40314"/>
              <a:gd name="adj2" fmla="val 8276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40160" y="60948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83920" y="200160"/>
            <a:ext cx="1314720" cy="276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ublic Re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548000" y="990720"/>
            <a:ext cx="529524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…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people must be informed if th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are to vote intelligen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…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there is a predominant complai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about schools by opposition tha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they are neglecting the “three R’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…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the media tends to focus only 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the neg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28600" y="304920"/>
            <a:ext cx="8686800" cy="6264360"/>
          </a:xfrm>
          <a:prstGeom prst="rect">
            <a:avLst/>
          </a:prstGeom>
          <a:solidFill>
            <a:srgbClr val="66ccff"/>
          </a:solidFill>
          <a:ln w="5724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013360" y="17445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050840" y="3726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32280" y="1592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699160" y="4259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5181480" y="3124080"/>
            <a:ext cx="3429000" cy="31338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3366"/>
            </a:outerShdw>
          </a:effectLst>
        </p:spPr>
      </p:pic>
      <p:sp>
        <p:nvSpPr>
          <p:cNvPr id="298" name=""/>
          <p:cNvSpPr/>
          <p:nvPr/>
        </p:nvSpPr>
        <p:spPr>
          <a:xfrm>
            <a:off x="2727360" y="1973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8600" y="457200"/>
            <a:ext cx="6400800" cy="1981080"/>
          </a:xfrm>
          <a:prstGeom prst="wedgeEllipseCallout">
            <a:avLst>
              <a:gd name="adj1" fmla="val 45064"/>
              <a:gd name="adj2" fmla="val 13701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440160" y="60948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83920" y="200160"/>
            <a:ext cx="1314720" cy="276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ublic Re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223280" y="914400"/>
            <a:ext cx="44812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Public Rela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is an ongoing program…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28600" y="304920"/>
            <a:ext cx="8686800" cy="6264360"/>
          </a:xfrm>
          <a:prstGeom prst="rect">
            <a:avLst/>
          </a:prstGeom>
          <a:solidFill>
            <a:srgbClr val="66ccff"/>
          </a:solidFill>
          <a:ln w="5724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013360" y="17445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050840" y="3726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2280" y="1592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699160" y="4259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5181480" y="3124080"/>
            <a:ext cx="3429000" cy="31338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3366"/>
            </a:outerShdw>
          </a:effectLst>
        </p:spPr>
      </p:pic>
      <p:sp>
        <p:nvSpPr>
          <p:cNvPr id="309" name=""/>
          <p:cNvSpPr/>
          <p:nvPr/>
        </p:nvSpPr>
        <p:spPr>
          <a:xfrm>
            <a:off x="2727360" y="1973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52280" y="457200"/>
            <a:ext cx="6782040" cy="2895480"/>
          </a:xfrm>
          <a:prstGeom prst="wedgeEllipseCallout">
            <a:avLst>
              <a:gd name="adj1" fmla="val 42555"/>
              <a:gd name="adj2" fmla="val 8404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440160" y="60948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83920" y="200160"/>
            <a:ext cx="1314720" cy="276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ublic Re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361880" y="914400"/>
            <a:ext cx="462168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…</a:t>
            </a: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public relations goes on actively a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   </a:t>
            </a: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all times whether the school likes i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   </a:t>
            </a: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or n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…</a:t>
            </a: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every contact is a PR cont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…</a:t>
            </a: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visitor’s perceptions are impact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   </a:t>
            </a: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with every cont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0T21:07:36Z</dcterms:created>
  <dc:creator>Ronald A. Styron, Jr.</dc:creator>
  <dc:description/>
  <dc:language>en-US</dc:language>
  <cp:lastModifiedBy>Administrator</cp:lastModifiedBy>
  <dcterms:modified xsi:type="dcterms:W3CDTF">2009-12-04T19:30:46Z</dcterms:modified>
  <cp:revision>305</cp:revision>
  <dc:subject/>
  <dc:title>PowerPoint Presentation</dc:title>
</cp:coreProperties>
</file>